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145000"/>
              </a:lnSpc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76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B03F-764E-4D93-8158-4F9B0E1D75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9465-0BE0-436D-9037-A83197F7EF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87B6-1FB8-4228-96BD-A0F1EEC0C9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387B-792D-4F3E-849F-F975440E25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6BD7-5CEE-4841-8882-6E760A590B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4CE9-16F3-498A-8413-0263DA9562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6502-F9FB-4E67-9E02-0BCE260E46B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53A2-66DD-4DBC-BAEC-C3702A7883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6294-BD26-4C84-B10A-8DBD892106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F3BB-7EB5-4E89-AEB2-53E8F26B4C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3B0E-4AFD-4177-A6DF-11758757C9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9958-1D83-4C29-AE64-F58EC22DC4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3717-18D3-46C2-8429-15F632FA534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5C19-6D19-4652-AC0A-A83FD174E8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8F5C-F08F-49CD-A96C-C8EA3588D2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FF6B-3E0F-4749-B070-D729D4332C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70DC-88E5-4589-B3F3-052E535F16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7920" y="472140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559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A02A-4207-4395-8AD8-3B7EE79193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737-4B02-45AF-A94B-B7C387D96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27A-08D5-4BD9-BE45-71CDC110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1F6-B0F6-45C5-8878-55EED2DB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AFEB-A9B4-4217-9143-A2F9DD54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3C8-ACC5-434A-B88C-4C39E906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7C9-3916-41F5-AC4B-047CA67F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AA6-5DB6-4939-8B68-F13A460B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47B2-F6D0-4378-BB19-9F14198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41A9-AF2E-443F-B1CF-EEEC0F22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869C-048F-4AB5-86EC-1CB2DCFC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601-90B3-48EE-914A-CEA252CB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FB3-D910-4C2B-8371-10B0640E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97AF-B607-4344-B8C4-78B95614822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am.cz/cz/products/rp/logframe.pdf" TargetMode="External"/><Relationship Id="rId2" Type="http://schemas.openxmlformats.org/officeDocument/2006/relationships/hyperlink" Target="http://www.partnerstvi-jmk.cz/page.php?action=detail&amp;id=94" TargetMode="External"/><Relationship Id="rId3" Type="http://schemas.openxmlformats.org/officeDocument/2006/relationships/hyperlink" Target="http://www.logframe.cz/metoda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s://forum.esfcr.cz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Specifická kritéria výzvy č. 88 </a:t>
            </a: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2000" y="2492280"/>
            <a:ext cx="6551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2800"/>
            </a:br>
            <a:r>
              <a:rPr b="1" lang="cs-CZ" sz="2800" spc="-1" strike="noStrike">
                <a:solidFill>
                  <a:srgbClr val="14407e"/>
                </a:solidFill>
                <a:latin typeface="Arial"/>
              </a:rPr>
              <a:t>OP LZZ – výzva č. 88 Rovné příležitosti žen a mužů na trhu práce a slaďová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aha/Brno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93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stupy a 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loužící pro dosažení účelu projek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y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se skutečně zrealizovalo; realizátoři projektu nesou za jejich dosažní přímou odpovědnost (za splnění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pokladů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); konkrétní popis toho, co se vytvoří, zdokonalí, inovuje…); je-li jich více -- nutno je popsat a očísl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rovedené genderové audity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interní směrnice k zavádění relevantní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á statistika využívání genderových opatře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led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- okamžité dopady projektu (čeho bude s ukončením projektu dosaženo) - používá se trpný rod (ve tvaru přídavného jména) popisující situaci na konci projektu (inovovaný produkt, motivované firmy pro prosazování tématu slaďová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zlepšení přístupu firem v regionu XY k problematice slaďování rodinného  pracovního živ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zaměstnanosti v regionu díky využití gender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aktivit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loužící k dosažení výstupů - ke každému výstupu přiřadit 2-4 aktivity se zdroji dostupnými pro vytvoření výstupů; činnosti, které jsou předmětem projektu (jejich logická a časová posloupnost) - jak bude projekt realizov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Genderový audit ve firm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iskuzní kulatý stů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ytvoření interních směrnic ve firmá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stavení výsledků zaměstnancům pod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ojení Úřadu práce ČR - propagace podpory slaďování při nabízení práce a při jednání s ostatními podniky zapojenými do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pracování statistiky využívání nov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vantitativní výzkum a evaluace v regionu (firmá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 vyplnění sloupce intervenčních cílů ově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ertikální logiku pomocí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/Pak -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usí být uvedeny všechny faktory ovlivňující dosažení vyšší úrovně (dosažení vyšší úrovně je podmíněno splněním úrovně nižš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jektivně ověřitelné ukazatel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it lze jen to, co lze měřit (u aktivit se uvádějí ukazatelé vstupů) - co, kolik, kdy, pro koho, kde. Pro měření jedné aktivity, výsledku či výstupů, a účelu - 2-3 ukazate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 projektech financovaných ze strukturálních fondů je dobré vycházet ze seznamu monitorovacích ukazatelů pro dané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5 firem projde genderovým auditem (počet podpořených osob 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20% zaměstnanců využije zavedených opa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droje objektivního ověření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jednotlivých úrovních logického rámce - pouze ukazatele, které je možno ověřit-- tj. validn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jsou-li jasné zdroje, je nutno v projektu učinit opatření, které povedou k jejich získání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 aktivit -- časový údaj o začátku a ukončení každé ak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na jednotlivých úrovních logického rámce -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izika přeformulovat do pozitivní podoby jako předpoklad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ředpokládáme o vnějších faktorech, na něž projekt nemá vliv, ale které mohou ovlivnit jeho realizaci a dlouhodobě i jeho udržitelno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povědi jsou strukturovány podle jednotlivých úrovní Cílů, Účelů, Výstupů a Aktivit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ledním řádkem tohoto sloupce jsou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ředběžné podmínky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(připravenost k realizaci), jejichž splnění podmiňuje zahájení celého projekt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Příprava projektu a jeho schválení poskytovatelem dotace, schopný realizační tým a genderový exper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látno 26"/>
          <p:cNvGrpSpPr/>
          <p:nvPr/>
        </p:nvGrpSpPr>
        <p:grpSpPr>
          <a:xfrm>
            <a:off x="1187280" y="1665360"/>
            <a:ext cx="6913800" cy="3995640"/>
            <a:chOff x="1187280" y="1665360"/>
            <a:chExt cx="6913800" cy="3995640"/>
          </a:xfrm>
        </p:grpSpPr>
        <p:sp>
          <p:nvSpPr>
            <p:cNvPr id="99" name="Obdélník 30"/>
            <p:cNvSpPr/>
            <p:nvPr/>
          </p:nvSpPr>
          <p:spPr>
            <a:xfrm>
              <a:off x="1187280" y="1665360"/>
              <a:ext cx="691380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pic>
          <p:nvPicPr>
            <p:cNvPr id="100" name="Picture 32" descr=""/>
            <p:cNvPicPr/>
            <p:nvPr/>
          </p:nvPicPr>
          <p:blipFill>
            <a:blip r:embed="rId1"/>
            <a:stretch/>
          </p:blipFill>
          <p:spPr>
            <a:xfrm>
              <a:off x="1187280" y="1838880"/>
              <a:ext cx="6361920" cy="316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Line 33"/>
            <p:cNvSpPr/>
            <p:nvPr/>
          </p:nvSpPr>
          <p:spPr>
            <a:xfrm>
              <a:off x="2945160" y="2590920"/>
              <a:ext cx="0" cy="168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2" name="Text Box 34"/>
            <p:cNvSpPr/>
            <p:nvPr/>
          </p:nvSpPr>
          <p:spPr>
            <a:xfrm>
              <a:off x="2462040" y="24901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3" name="Text Box 35"/>
            <p:cNvSpPr/>
            <p:nvPr/>
          </p:nvSpPr>
          <p:spPr>
            <a:xfrm>
              <a:off x="2478240" y="39819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4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4" name="Text Box 36"/>
            <p:cNvSpPr/>
            <p:nvPr/>
          </p:nvSpPr>
          <p:spPr>
            <a:xfrm>
              <a:off x="7005240" y="450288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6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5" name="Text Box 37"/>
            <p:cNvSpPr/>
            <p:nvPr/>
          </p:nvSpPr>
          <p:spPr>
            <a:xfrm>
              <a:off x="2945160" y="25718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5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6" name="Text Box 38"/>
            <p:cNvSpPr/>
            <p:nvPr/>
          </p:nvSpPr>
          <p:spPr>
            <a:xfrm>
              <a:off x="2478240" y="29397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2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2478240" y="34401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3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 flipH="1" flipV="1">
              <a:off x="3251880" y="4213080"/>
              <a:ext cx="3805560" cy="63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09" name="Text Box 41"/>
            <p:cNvSpPr/>
            <p:nvPr/>
          </p:nvSpPr>
          <p:spPr>
            <a:xfrm>
              <a:off x="3498480" y="326664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8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0" name="Text Box 42"/>
            <p:cNvSpPr/>
            <p:nvPr/>
          </p:nvSpPr>
          <p:spPr>
            <a:xfrm>
              <a:off x="2931480" y="490896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1" name="Text Box 43"/>
            <p:cNvSpPr/>
            <p:nvPr/>
          </p:nvSpPr>
          <p:spPr>
            <a:xfrm>
              <a:off x="3505320" y="274572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9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2" name="Text Box 44"/>
            <p:cNvSpPr/>
            <p:nvPr/>
          </p:nvSpPr>
          <p:spPr>
            <a:xfrm>
              <a:off x="3505320" y="3787560"/>
              <a:ext cx="2988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7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7</a:t>
              </a:r>
              <a:endParaRPr b="0" lang="en-US" sz="17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3" name="Line 45"/>
            <p:cNvSpPr/>
            <p:nvPr/>
          </p:nvSpPr>
          <p:spPr>
            <a:xfrm>
              <a:off x="3560760" y="41554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4" name="Line 46"/>
            <p:cNvSpPr/>
            <p:nvPr/>
          </p:nvSpPr>
          <p:spPr>
            <a:xfrm flipH="1" flipV="1">
              <a:off x="3498480" y="3750840"/>
              <a:ext cx="3558960" cy="40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5" name="Line 47"/>
            <p:cNvSpPr/>
            <p:nvPr/>
          </p:nvSpPr>
          <p:spPr>
            <a:xfrm>
              <a:off x="3560760" y="363456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6" name="Line 48"/>
            <p:cNvSpPr/>
            <p:nvPr/>
          </p:nvSpPr>
          <p:spPr>
            <a:xfrm flipH="1" flipV="1">
              <a:off x="3498480" y="322848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7" name="Line 49"/>
            <p:cNvSpPr/>
            <p:nvPr/>
          </p:nvSpPr>
          <p:spPr>
            <a:xfrm>
              <a:off x="3560760" y="3113280"/>
              <a:ext cx="34966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8" name="Line 50"/>
            <p:cNvSpPr/>
            <p:nvPr/>
          </p:nvSpPr>
          <p:spPr>
            <a:xfrm flipH="1" flipV="1">
              <a:off x="3498480" y="2707200"/>
              <a:ext cx="3558960" cy="406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19" name="Oval 51"/>
            <p:cNvSpPr/>
            <p:nvPr/>
          </p:nvSpPr>
          <p:spPr>
            <a:xfrm>
              <a:off x="1840680" y="1665360"/>
              <a:ext cx="6260400" cy="3995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45000"/>
                </a:lnSpc>
                <a:buClr>
                  <a:srgbClr val="143f7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4295520" y="2359800"/>
              <a:ext cx="1596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lnSpc>
                  <a:spcPct val="145000"/>
                </a:lnSpc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1" name="Text Box 53"/>
            <p:cNvSpPr/>
            <p:nvPr/>
          </p:nvSpPr>
          <p:spPr>
            <a:xfrm>
              <a:off x="42955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1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  <p:sp>
          <p:nvSpPr>
            <p:cNvPr id="122" name="Text Box 54"/>
            <p:cNvSpPr/>
            <p:nvPr/>
          </p:nvSpPr>
          <p:spPr>
            <a:xfrm>
              <a:off x="5386320" y="2339640"/>
              <a:ext cx="443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33120" bIns="33120" anchor="t">
              <a:noAutofit/>
            </a:bodyPr>
            <a:p>
              <a:pPr algn="just">
                <a:lnSpc>
                  <a:spcPct val="115000"/>
                </a:lnSpc>
                <a:spcAft>
                  <a:spcPts val="1001"/>
                </a:spcAft>
                <a:buClr>
                  <a:srgbClr val="ff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12</a:t>
              </a:r>
              <a:endParaRPr b="0" lang="en-US" sz="1600" spc="-1" strike="noStrike">
                <a:solidFill>
                  <a:srgbClr val="143f7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ečné čtení matice log.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28" descr=""/>
          <p:cNvPicPr/>
          <p:nvPr/>
        </p:nvPicPr>
        <p:blipFill>
          <a:blip r:embed="rId1"/>
          <a:srcRect l="14214" t="33060" r="12230" b="10538"/>
          <a:stretch/>
        </p:blipFill>
        <p:spPr>
          <a:xfrm>
            <a:off x="611280" y="1596960"/>
            <a:ext cx="77058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412640"/>
            <a:ext cx="82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Příručka pro řízení rozvojových partnerství, Ministerstvo práce a sociálních věcí, 2008, str. 28-42. Dostupné z WWW: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http://www.equalcr.cz/files/clanky/7/Prirucka_pro_rizeni_rozvojovych_partnerstvi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HUDOBA, Roman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Formulace projektu metodou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eam.cz/cz/products/rp/logframe.pdf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ACKO, Branislav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y a techniky projekt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ř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íze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in Sborník vybraných kapitol z přípravy a řízení projektů. Výukový materiál z projektu Euromanažer. Krajské zařízení pro další vzdělávání pedagogických pracovníků a informační centrum, Nový Jičín, příspěvková Orga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atice logického rámce. Metodický návod tvorby a použití logického rámc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Modul III.Akreditovaný vzdělávací program Mobilní projektový inkubátor. 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artnerstvi-jmk.cz/page.php?action=detail&amp;id=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etoda logického rámce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stupné z WWW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ogframe.cz/metoda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Národní ústav odborného vzdělávání.: 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Jak připravit projekty financované z evropských fondů v období 2007-2013 -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Možnosti čerpání prostředků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prava a zpracování projektu</a:t>
            </a:r>
            <a:r>
              <a:rPr b="1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Konkrétní rady pro tvorbu a podávání projektu. 1. Vyd., Praha, 2008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Calibri"/>
              </a:rPr>
              <a:t>Zaměření projektu na ženy v předdůchodovém vě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143f7e"/>
                </a:solidFill>
                <a:latin typeface="Arial"/>
              </a:rPr>
              <a:t>zda a v jaké míře 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jektem podpořeny ženy v předdůchodovém vě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ezi osoby předdůchodového věku se řadí lidé, kteří přesáhli věkovou hranici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50 le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do dosažení hranice odchodu do důchod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) Mezi cílovými skupinami projektu není zařazena cílová skupina ženy v předdůchodovém věk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) Cílová skupina ženy v předdůchodovém věku jsou jednou z několika cílových skupin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1 b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Cílová skupina ženy v předdůchodovém věku jsou jedinou cílovou skupinou projektu – 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Šipka doprava 3"/>
          <p:cNvSpPr/>
          <p:nvPr/>
        </p:nvSpPr>
        <p:spPr>
          <a:xfrm>
            <a:off x="531720" y="1909800"/>
            <a:ext cx="681120" cy="369720"/>
          </a:xfrm>
          <a:prstGeom prst="rightArrow">
            <a:avLst>
              <a:gd name="adj1" fmla="val 50000"/>
              <a:gd name="adj2" fmla="val 49835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3" name="Šipka doprava 3"/>
          <p:cNvSpPr/>
          <p:nvPr/>
        </p:nvSpPr>
        <p:spPr>
          <a:xfrm>
            <a:off x="531720" y="2462040"/>
            <a:ext cx="647640" cy="370080"/>
          </a:xfrm>
          <a:prstGeom prst="rightArrow">
            <a:avLst>
              <a:gd name="adj1" fmla="val 50000"/>
              <a:gd name="adj2" fmla="val 49786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lavním smyslem tvorby partnerství 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zká vzájemná spolupráce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různých typů organizac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é disponují odlišnými zkušenostmi s řešením problematiky v dané oblasti (vymezené jak regionálně, tak i tematicky) při realizaci projektu. Partneři se podílejí na fungování a naplňování cíle společného projektu, spoluúčast všech partnerů na projektu je podstatná a nezastupiteln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Český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s finančním příspěvk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bez finančního příspěv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musí patřit mezi oprávněné žadatele ve výzvě č.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Výjimku tvoří Úřad práce ČR, který může být partnerem, ovšem bez finančního příspěv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  <a:ea typeface="Calibri"/>
              </a:rPr>
              <a:t>Ostatní organizační složky státu a jimi zřizované organizace mohou být pouze spolupracujícími organizacemi, nikoli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Šipka doprava 3"/>
          <p:cNvSpPr/>
          <p:nvPr/>
        </p:nvSpPr>
        <p:spPr>
          <a:xfrm>
            <a:off x="587520" y="1700280"/>
            <a:ext cx="647640" cy="369720"/>
          </a:xfrm>
          <a:prstGeom prst="rightArrow">
            <a:avLst>
              <a:gd name="adj1" fmla="val 50000"/>
              <a:gd name="adj2" fmla="val 49834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57" name="Šipka doprava 4"/>
          <p:cNvSpPr/>
          <p:nvPr/>
        </p:nvSpPr>
        <p:spPr>
          <a:xfrm>
            <a:off x="528480" y="444672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Princip partne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esmí být založena na poskytování služeb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ěžně dostupných na trh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Realizace principu partnerství nesmí být v rozporu s příslušnými právními předpisy ČR, zejména principu partnerství nesmí být zneužito k obcházení zákona o veřejných zakázk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Bodové zvýhodnění v rámci výzvy č.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stejného typu subjektů – např. NNO a NNO, podnikatelský subjekt a podnikatelský subjekt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0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artnerství dvou typů subjektů – např. NNO a podnikatelský subjekt, NNO a místní samospráva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3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) partnerství tří a více typů subjektů – např. NNO, podnikatelský subjekt a místní samospráva – 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6 bo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 jeden typ organizace jsou považovány všechny její právní for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čet partnerů není rozhodující, body jsou přiděleny na základě propojení různých typů organiza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555480" y="134136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1" name="Šipka doprava 5"/>
          <p:cNvSpPr/>
          <p:nvPr/>
        </p:nvSpPr>
        <p:spPr>
          <a:xfrm>
            <a:off x="582480" y="4941720"/>
            <a:ext cx="649440" cy="368640"/>
          </a:xfrm>
          <a:prstGeom prst="rightArrow">
            <a:avLst>
              <a:gd name="adj1" fmla="val 50000"/>
              <a:gd name="adj2" fmla="val 5011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ít či nemít partnera? Pokud ano, ko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ůležité otáz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partneři do projektu přines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uznatelní v rámci výzv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á bude partnerova úloha v projekt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ý bude jejich závazek, jak ho přijmou a jak ho napln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ak logicky do sebe zapadají jednotlivé úlohy partnerů? – nejsou někde mezery? Nedublují se určité aktivity? Existují třecí plochy, konflik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i přípravě partnerského pro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lze ušetřit čas – je třeba mnoho setkání, diskuzí či alespoň e-mai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jistit rovnost účastníků – každý by měl něčím přispět – silnější identifikace s projek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 opravdu společná ochota podílet se na získávání a využívání společných finančních prostředk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odnotí se použití metody logického rámce, která umožňuje navržení a uspořádání základních charakteristik projektu ve vzájemných souvislo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nitřní logika projektu prokázaná v matici logického rámce, je založena na princip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íčiny a důsled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hora dolů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Aby – Je tře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zdola nahoru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Jestliže – P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V Jestliže/Pak testu mus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být uvedeny všechny faktory ovlivňující dosažení vyšší úrovně (dosažení vyšší úrovně je podmíněno splněním nižší úrovn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me ty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ivity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sáhneme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dosáhli těch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stupů a výsledků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lze očekávat tu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měn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)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Jestliž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me splnili ten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Účel projektu →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pak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jsme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ispěli k naplnění tohoto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becného cí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obrý projekt má zvolené monitorovací ukazatele přiměřené a realistické, cíle jsou vždy kvantifikované a stanovené cílové hodnoty jsou dosažitelné (z hlediska času a rozpočtu) a vedou k měřitelným dopadů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předložení LR -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0 bodů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X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edložení LR – 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1 bod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Šipka doprava 5"/>
          <p:cNvSpPr/>
          <p:nvPr/>
        </p:nvSpPr>
        <p:spPr>
          <a:xfrm>
            <a:off x="520560" y="3645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67" name="Šipka doprava 5"/>
          <p:cNvSpPr/>
          <p:nvPr/>
        </p:nvSpPr>
        <p:spPr>
          <a:xfrm>
            <a:off x="500040" y="269892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kritérium – Metoda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116000" y="1468440"/>
            <a:ext cx="77040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03280" y="1663560"/>
          <a:ext cx="7201080" cy="435924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1800360"/>
              </a:tblGrid>
              <a:tr h="1311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intervenční logika (strom cílů)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Velmi obecné proč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ivně měřitelné ukazatele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zdroje a prostředky k ověření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upec – vnější předpoklady a rizika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čel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Proč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Co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15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ivity projektu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d1131c"/>
                          </a:solidFill>
                          <a:latin typeface="Arial"/>
                        </a:rPr>
                        <a:t>Jak?</a:t>
                      </a: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43f7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71" name="Zahnutá šipka doleva 8"/>
          <p:cNvSpPr/>
          <p:nvPr/>
        </p:nvSpPr>
        <p:spPr>
          <a:xfrm>
            <a:off x="3008160" y="3687840"/>
            <a:ext cx="601920" cy="8636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3640"/>
              <a:gd name="textAreaBottom" fmla="*/ 6289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2" name="Zahnutá šipka doleva 10"/>
          <p:cNvSpPr/>
          <p:nvPr/>
        </p:nvSpPr>
        <p:spPr>
          <a:xfrm>
            <a:off x="3008160" y="2708280"/>
            <a:ext cx="601920" cy="86508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480 h 865080"/>
              <a:gd name="textAreaBottom" fmla="*/ 63000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3" name="Zahnutá šipka doleva 11"/>
          <p:cNvSpPr/>
          <p:nvPr/>
        </p:nvSpPr>
        <p:spPr>
          <a:xfrm>
            <a:off x="3008160" y="4724280"/>
            <a:ext cx="601920" cy="865440"/>
          </a:xfrm>
          <a:custGeom>
            <a:avLst/>
            <a:gdLst>
              <a:gd name="textAreaLeft" fmla="*/ 80640 w 601920"/>
              <a:gd name="textAreaRight" fmla="*/ 521280 w 601920"/>
              <a:gd name="textAreaTop" fmla="*/ 159840 h 865440"/>
              <a:gd name="textAreaBottom" fmla="*/ 6303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3302751"/>
                <a:lnTo>
                  <a:pt x="5400" y="21347"/>
                </a:lnTo>
                <a:lnTo>
                  <a:pt x="0" y="17838"/>
                </a:lnTo>
                <a:lnTo>
                  <a:pt x="5400" y="13823"/>
                </a:lnTo>
                <a:lnTo>
                  <a:pt x="5400" y="15704"/>
                </a:lnTo>
                <a:arcTo wR="21600" hR="7979" stAng="3302751" swAng="-2995518"/>
                <a:lnTo>
                  <a:pt x="20991" y="9860"/>
                </a:lnTo>
                <a:arcTo wR="21600" hR="7979" stAng="-307233" swAng="-5092767"/>
                <a:close/>
              </a:path>
              <a:path fill="darkenLess" w="21600" h="21600">
                <a:moveTo>
                  <a:pt x="0" y="0"/>
                </a:moveTo>
                <a:arcTo wR="21600" hR="7979" stAng="-5400000" swAng="5400000"/>
                <a:lnTo>
                  <a:pt x="21600" y="11741"/>
                </a:lnTo>
                <a:arcTo wR="21600" hR="7979" stAng="0" swAng="-307233"/>
                <a:lnTo>
                  <a:pt x="20991" y="9860"/>
                </a:lnTo>
                <a:arcTo wR="21600" hR="7979" stAng="-307233" swAng="-5092767"/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4" name="Zahnutá šipka doprava 7"/>
          <p:cNvSpPr/>
          <p:nvPr/>
        </p:nvSpPr>
        <p:spPr>
          <a:xfrm>
            <a:off x="395280" y="4653000"/>
            <a:ext cx="360360" cy="79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64160 h 792000"/>
              <a:gd name="textAreaBottom" fmla="*/ 5828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59" stAng="-5400000" swAng="-5400000"/>
                <a:lnTo>
                  <a:pt x="0" y="11414"/>
                </a:lnTo>
                <a:arcTo wR="21600" hR="8959" stAng="10800000" swAng="-3485831"/>
                <a:lnTo>
                  <a:pt x="16200" y="21316"/>
                </a:lnTo>
                <a:lnTo>
                  <a:pt x="21600" y="19146"/>
                </a:lnTo>
                <a:lnTo>
                  <a:pt x="16200" y="16407"/>
                </a:lnTo>
                <a:lnTo>
                  <a:pt x="16200" y="17634"/>
                </a:lnTo>
                <a:arcTo wR="21600" hR="8959" stAng="7314169" swAng="3288825"/>
                <a:lnTo>
                  <a:pt x="204" y="10187"/>
                </a:lnTo>
                <a:arcTo wR="21600" hR="8959" stAng="-10602993" swAng="5202993"/>
                <a:close/>
              </a:path>
              <a:path fill="darkenLess" w="21600" h="21600">
                <a:moveTo>
                  <a:pt x="21600" y="0"/>
                </a:moveTo>
                <a:arcTo wR="21600" hR="8959" stAng="-5400000" swAng="-5400000"/>
                <a:lnTo>
                  <a:pt x="0" y="8959"/>
                </a:lnTo>
                <a:arcTo wR="21600" hR="8959" stAng="10800000" swAng="-197007"/>
                <a:lnTo>
                  <a:pt x="204" y="10187"/>
                </a:lnTo>
                <a:arcTo wR="21600" hR="8959" stAng="-10602993" swAng="5202993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5" name="Zahnutá šipka nahoru 12"/>
          <p:cNvSpPr/>
          <p:nvPr/>
        </p:nvSpPr>
        <p:spPr>
          <a:xfrm>
            <a:off x="395280" y="4653000"/>
            <a:ext cx="549360" cy="647640"/>
          </a:xfrm>
          <a:custGeom>
            <a:avLst/>
            <a:gdLst>
              <a:gd name="textAreaLeft" fmla="*/ 85680 w 549360"/>
              <a:gd name="textAreaRight" fmla="*/ 394920 w 549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-3313283"/>
                <a:lnTo>
                  <a:pt x="21446" y="4581"/>
                </a:lnTo>
                <a:lnTo>
                  <a:pt x="16200" y="0"/>
                </a:lnTo>
                <a:lnTo>
                  <a:pt x="10646" y="4581"/>
                </a:lnTo>
                <a:lnTo>
                  <a:pt x="13346" y="4581"/>
                </a:lnTo>
                <a:arcTo wR="6750" hR="21600" stAng="2086717" swAng="2847297"/>
                <a:lnTo>
                  <a:pt x="9450" y="19797"/>
                </a:lnTo>
                <a:arcTo wR="6750" hR="21600" stAng="5865986" swAng="4934014"/>
                <a:close/>
              </a:path>
              <a:path fill="darkenLess" w="21600" h="21600">
                <a:moveTo>
                  <a:pt x="0" y="0"/>
                </a:moveTo>
                <a:arcTo wR="6750" hR="21600" stAng="10800000" swAng="-5400000"/>
                <a:lnTo>
                  <a:pt x="12150" y="21600"/>
                </a:lnTo>
                <a:arcTo wR="6750" hR="21600" stAng="5400000" swAng="465986"/>
                <a:lnTo>
                  <a:pt x="9450" y="19797"/>
                </a:lnTo>
                <a:arcTo wR="6750" hR="21600" stAng="5865986" swAng="4934014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6" name="AutoShape 44"/>
          <p:cNvSpPr/>
          <p:nvPr/>
        </p:nvSpPr>
        <p:spPr>
          <a:xfrm flipH="1" flipV="1">
            <a:off x="1151640" y="4579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7" name="AutoShape 44"/>
          <p:cNvSpPr/>
          <p:nvPr/>
        </p:nvSpPr>
        <p:spPr>
          <a:xfrm flipH="1" flipV="1">
            <a:off x="1162800" y="2482200"/>
            <a:ext cx="436680" cy="865080"/>
          </a:xfrm>
          <a:custGeom>
            <a:avLst/>
            <a:gdLst>
              <a:gd name="textAreaLeft" fmla="*/ 58320 w 436680"/>
              <a:gd name="textAreaRight" fmla="*/ 378360 w 43668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8" name="AutoShape 44"/>
          <p:cNvSpPr/>
          <p:nvPr/>
        </p:nvSpPr>
        <p:spPr>
          <a:xfrm flipH="1" flipV="1">
            <a:off x="1162800" y="3539520"/>
            <a:ext cx="438120" cy="865080"/>
          </a:xfrm>
          <a:custGeom>
            <a:avLst/>
            <a:gdLst>
              <a:gd name="textAreaLeft" fmla="*/ 58680 w 438120"/>
              <a:gd name="textAreaRight" fmla="*/ 379440 w 438120"/>
              <a:gd name="textAreaTop" fmla="*/ 154080 h 865080"/>
              <a:gd name="textAreaBottom" fmla="*/ 6278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2719859"/>
                <a:lnTo>
                  <a:pt x="7200" y="21158"/>
                </a:lnTo>
                <a:lnTo>
                  <a:pt x="0" y="17501"/>
                </a:lnTo>
                <a:lnTo>
                  <a:pt x="7200" y="12959"/>
                </a:lnTo>
                <a:lnTo>
                  <a:pt x="7200" y="15009"/>
                </a:lnTo>
                <a:arcTo wR="21600" hR="7726" stAng="2719859" swAng="-2382635"/>
                <a:lnTo>
                  <a:pt x="20826" y="9775"/>
                </a:lnTo>
                <a:arcTo wR="21600" hR="7726" stAng="-337224" swAng="-5062776"/>
                <a:close/>
              </a:path>
              <a:path fill="darkenLess" w="21600" h="21600">
                <a:moveTo>
                  <a:pt x="0" y="0"/>
                </a:moveTo>
                <a:arcTo wR="21600" hR="7726" stAng="-5400000" swAng="5400000"/>
                <a:lnTo>
                  <a:pt x="21600" y="11825"/>
                </a:lnTo>
                <a:arcTo wR="21600" hR="7726" stAng="0" swAng="-337224"/>
                <a:lnTo>
                  <a:pt x="20826" y="9775"/>
                </a:lnTo>
                <a:arcTo wR="21600" hR="7726" stAng="-337224" swAng="-5062776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79" name="TextovéPole 14"/>
          <p:cNvSpPr/>
          <p:nvPr/>
        </p:nvSpPr>
        <p:spPr>
          <a:xfrm>
            <a:off x="3708360" y="3348000"/>
            <a:ext cx="144000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Aby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Je třeba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0" name="TextovéPole 19"/>
          <p:cNvSpPr/>
          <p:nvPr/>
        </p:nvSpPr>
        <p:spPr>
          <a:xfrm>
            <a:off x="-19080" y="4863960"/>
            <a:ext cx="133344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Jestliže</a:t>
            </a:r>
            <a:endParaRPr b="0" lang="en-US" sz="24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becný (hlavní) cí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 jehož naplnění projekt přispěje; cíl, k jehož dosažení je projekt jen jednou z podmínek; důvod realizace ve spojení s prioritami v operačních programech (či programových dodatcíc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Uvádíme, k dosažení jakého cíle přispějeme, jestliže splníme účel, pro který    jsme se do projektu pouštěli. Hlavní cíl v logickém rámci by měl odpovídat hlavnímu cíli v daném opatření 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TANOVÉNÍ OBECNÉHO CÍLE - CO CHCEME DOSÁHNOU    OBECNĚ, JESTLIŽE SPLNÍME ÚČ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oblast podpory 3. 4 je obecným cílem podpora Rovných příležitostí žen a mužů na trhu práce a slaďování pracovního a rodinného živo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lepšení slaďování rodinného a pracovního života (v regionu XY, v MS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Šipka doprava 5"/>
          <p:cNvSpPr/>
          <p:nvPr/>
        </p:nvSpPr>
        <p:spPr>
          <a:xfrm>
            <a:off x="493560" y="35892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  <p:sp>
        <p:nvSpPr>
          <p:cNvPr id="84" name="Šipka doprava 5"/>
          <p:cNvSpPr/>
          <p:nvPr/>
        </p:nvSpPr>
        <p:spPr>
          <a:xfrm>
            <a:off x="493560" y="5661000"/>
            <a:ext cx="648000" cy="368280"/>
          </a:xfrm>
          <a:prstGeom prst="rightArrow">
            <a:avLst>
              <a:gd name="adj1" fmla="val 50000"/>
              <a:gd name="adj2" fmla="val 50057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stup vyplňování logického rá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efinova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účel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který má projekt splnit (jen jeden); čeho hodláme dosáhnout; skutečný motiv; změna, kterou chceme dosáhnout (i když jí třeba nedosáhne jenom jeden projekt). Účel vyjadřuje cíl, ne aktivity; bezprostřední důvod, proč se do projektu pouštíme. O naplnění změny usilujeme výstupy a výsledky (příp. i dop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CO CHCEME DOSÁHNOUT, JESTLIŽE PROVEDEME AK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. Účelem projektu ve výzvě 88 by mělo být zlepšení situace  v prosazování rovných příležitostí žen a mužů na trhu práce a ve sladění pracovního a rodinného života. Zohlednění Evropského roku aktivního stárnutí a mezigenerační solidar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Firmy jsou motivovány zavézt relevantní opatření pro slaďování rodinného a pracovního života (MPS, regionu X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Šipka doprava 5"/>
          <p:cNvSpPr/>
          <p:nvPr/>
        </p:nvSpPr>
        <p:spPr>
          <a:xfrm>
            <a:off x="463680" y="3032280"/>
            <a:ext cx="647640" cy="3682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113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43f7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3-20T13:00:14Z</dcterms:modified>
  <cp:revision>1013</cp:revision>
  <dc:subject/>
  <dc:title>Snímek 1</dc:title>
</cp:coreProperties>
</file>